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9501-5275-4C8B-A709-30E957611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812C-8F7C-4EE2-BB85-1B3C4AA4F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72A6-C2C9-498D-A93F-F3809766A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ABFC-A6C6-453A-80B9-80C1ED422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A608-008C-44C9-B2ED-394A71D1C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D0C6-65D3-46E0-AB23-70E887A94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12CD-188D-48E7-9437-2E12F2928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CB0A-2175-41FE-AB48-8E2E11AA4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C40E-52A0-460B-9BE9-BCBEC6C0A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B3A3-EF9C-47B6-9943-2F559969F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1A73-A13C-4A15-8DD5-DAE810AD2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898A-73D3-4FFF-9063-84E2F376D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6CE7-C744-45F9-A56C-98BCB4C90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3E64-D129-4C22-81F4-DCF7A0B57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0641-DC2A-43C2-A97C-ACD9A88CC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D0C8-6686-4ABC-8D43-86CFAA4C4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EDC5-BAD9-466E-9599-349B8DE64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5814-D158-4B4A-809E-C978EE531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99E1-580E-462F-8654-E807625E2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5CD9-8062-4F05-A764-1A9654B7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7F8A-A9E8-4569-BA12-6BE2673B4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3F23-232A-45CF-948E-E6B0FA63E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4CC2-AA6F-4C6C-A564-C24328E90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9D45-BCF0-4A84-996E-68B3EC3CC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B389-E7EC-4BC4-8F42-CDDD32136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AB6-682D-48AE-AF12-7BD16743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822-410F-4807-8FD5-5C5AFD64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07B-CE39-4FC6-B30A-1FB0CDA3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78B-CAAF-4156-B351-397209E0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8FD-B1AF-4221-839C-0E6608CC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9D5-A172-48C2-A7C1-6CB0CA98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79D-20D5-4488-ABD4-1F76F4E7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A2B-12C8-4268-B34A-19F4D83E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D50-9478-4AD6-BE6C-910FFB00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2D9-DBD0-4ADB-82F3-D9E05EE2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3E1-D13D-4A95-BB2F-70D3F5F1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14B-EC4E-43B7-83AF-DB6E877C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809B-1FD5-4BA8-A8F5-01AC0E641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838080" y="16765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legal immigrants cross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order without the pro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perwork permitting t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become citizens of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914400" y="38088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the difference between a LEGAL immigrant and an ILLEGAL immig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336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t and hum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climate like in the Amaz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990720" y="15238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ee Enterpris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economic system is the United States economy based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ntries that rely on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INTERDEPE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68580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 land is too large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vernment to regulat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hasn’t the illegal cutting of the Rainforest stop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cky Mountains, Costal Plain, and Great Plains can be found on which contin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there would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 reg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goods or servi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can a TRUE market economy almost NEVER exist in the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industry that produce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e instead of a produ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ervice Indus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91440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it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066680" y="228600"/>
            <a:ext cx="716292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bead economy - simulation that we did, what was the name of ONE of the THREE economies we talked about.  Please give me two facts about the econo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use we are a mix of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 cultures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e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5800" y="228600"/>
            <a:ext cx="78487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the United States considered a melting po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0" y="0"/>
            <a:ext cx="228600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th or South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0"/>
            <a:ext cx="20574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nomi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572000" y="0"/>
            <a:ext cx="20574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81680" y="0"/>
            <a:ext cx="221004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dom Fact Extravag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 American Fre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e Agre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, Mexico, Ca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NAFTA stand for?  Which three countries are apart of NAF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676520"/>
            <a:ext cx="7162560" cy="4038480"/>
          </a:xfrm>
          <a:prstGeom prst="wedgeRectCallout">
            <a:avLst>
              <a:gd name="adj1" fmla="val -21231"/>
              <a:gd name="adj2" fmla="val 73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untry in which industry h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laced farming as the m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ic activ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INDUSTR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106668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rming or Ran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ll of the Amazon, what is the number one cause of deforest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457200" y="304920"/>
            <a:ext cx="8153280" cy="53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merigo BT"/>
              </a:rPr>
              <a:t>Final Jeopard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merigo BT"/>
              </a:rPr>
              <a:t>Teams prepare to make your WAGER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09480" y="83808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ease list and EXPLAIN the five different types of deforest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2193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ted States, Mexico, Canada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Green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FOUR countries make up North Ame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xed Mar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economy does the U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includes 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 cultu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04920" y="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MULT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914400" y="2743200"/>
            <a:ext cx="7162920" cy="2743200"/>
          </a:xfrm>
          <a:prstGeom prst="wedgeRectCallout">
            <a:avLst>
              <a:gd name="adj1" fmla="val -21231"/>
              <a:gd name="adj2" fmla="val -717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farmer who only grows en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od for them and their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surv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914400" y="38088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term SUBSITANCE FARMER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LARGEST country in South Ame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91440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five in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six in Cana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90720" y="22860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Economic regions are there in the US?  Can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son who hunts and 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s illeg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PO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5:50:08Z</dcterms:created>
  <dc:creator>Jerry Myers</dc:creator>
  <dc:description>Created by Jerry Myers is 1998 for a class.</dc:description>
  <dc:language>en-US</dc:language>
  <cp:lastModifiedBy>Robin Jadick</cp:lastModifiedBy>
  <cp:lastPrinted>2001-01-31T16:21:13Z</cp:lastPrinted>
  <dcterms:modified xsi:type="dcterms:W3CDTF">2011-03-29T18:00:41Z</dcterms:modified>
  <cp:revision>6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